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17A-8796-4A94-80F5-09A9F37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5EE-128F-42CF-9F34-E83D13D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42E51-88FF-4F6E-B5F5-96493D28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C5C91-A420-4DAA-AEC0-D61F4956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E65EF-A991-4CD5-802F-5CD97A0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EB46C-96F0-4A46-A817-E850D3C7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04C75-AD6E-4E00-A872-9B00E486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2852F-AAAE-4ED1-BF67-24A807B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61E27-1ED6-4091-B325-589A5CE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997EC-CE21-4631-AB24-BBF418D5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CD76-D327-4F76-A173-1EB97181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69562-2257-4041-B777-B1B89066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B97-8961-43D5-9005-406E547D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5BE3B-D1E2-4C5E-B506-F3D5D16D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64489-7331-4409-916A-ED088E0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7870C-7B4B-4F71-9A1A-4DE9730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61BA-0F49-4736-94BB-935C6B0F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A1559-8DBA-49E6-9A55-1D523B2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27A0-FA2D-4F66-BAA0-34E82FC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972A2-6781-4A05-A016-7CA061A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EB0F6-CFBF-4C4D-AEEB-786B339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CADF-DC5E-41A5-B416-936F3E02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F98F8-6794-4817-BA67-C4600BA0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307-CDED-4DB5-ADF8-77163013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32099-A595-4815-81E2-BECFE15A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525F7-15DB-4171-B78B-EA45867C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BC7E8-79C6-496D-8178-5355E251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DE2CD-D122-494F-950B-B3F954F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FE5B-736A-4593-9445-116CAC4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C17A0-B4C2-4A37-8B66-0316450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A02FD-0D19-4565-9540-9D10251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A5854-78F4-458D-BDC4-ABF1D65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31588-D592-419B-9615-D2810D4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1BD7-5B00-44BC-B1C5-B262E1D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B28B-4A25-4724-A1FF-8FEF9ECE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6EB75-5C39-49CE-8670-6398C57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BC72E-C348-4691-A274-A7380802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C1800-9B96-4743-89A6-A312F26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50312-869C-4A1F-AC1E-9B0F3D5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C441-C236-41CC-BBBA-7BB6BA6F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7C804-377F-4B2B-BC7E-0EC011F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C068-2133-4832-B2DC-4FAB6C7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9037F-33EA-4047-83E0-087BFEEB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0CA5-A355-43C7-BE73-8E58EAC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2353E-D643-40B2-B5DE-40F03CEA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7FC9-965B-4685-A3A4-DB8DAF9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B29C-E21D-42F8-978B-DA0F311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45345-75FB-4631-B302-E09E17A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512E-289A-4365-8275-5C16A79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C0CD8-50D2-413F-B573-3C19C289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17BF3-CEA5-46AF-AE53-35E35A04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03314-9B9D-42F2-8443-E36CBFD8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FF1C0-6BA1-4E0A-8862-694D1960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AD404-1C1B-4DEB-95BD-481FB4B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119DC-C732-4A92-8E04-DA502F7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0314E-5701-48F4-B348-9FE4C1A1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A180-DFC3-4148-9AB7-9100A24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8E989-E095-4F9D-9F48-1011112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EB29D-23F1-4A49-9394-23F3F58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6980B-75E7-49C7-859C-CA41DA6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1D783-5948-4A2A-BC0E-D8C3DEB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72865-C86F-4FA8-9234-4CC73D81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68602-4361-4FEC-9F72-51821FF6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7C7CD-1A5E-413F-87A3-6CE6E96E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B8985-DE7E-431B-B39C-E4C57EFE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5AF15-8E6D-497D-AFCF-8CE26E07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549E9-453F-4BD3-88A9-D5395EC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3E1-EE94-4EB8-8E0A-E7412F0A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5085F-2E07-4780-B795-F5B5550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3F83D-8AD0-4C2F-99F8-F8CF737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CBD9E-CB27-4911-9D20-D1F5E40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BA71D-B736-4D18-8C32-186D25B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7D9C1-DB0D-4F96-840B-CD3D2A28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2F390-4C92-4FE9-B4C0-9F36CBF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61167-AEA9-4EA4-BBFA-17D66B63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91D4F-4C22-4048-ACFB-9AFC3072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97A40-16A2-4461-ABF4-6F4FA5A5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7CC41-33B3-40EF-BE72-E3FEF22C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2418-4B9C-4E25-BD9B-95D40D5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AF0D5-57A6-4FEB-884A-F081733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5F5F3-3861-47A6-8287-88DB66B5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A380E-D052-4DE4-920D-933D6623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1903C-80B9-4120-9A4D-3D7374E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48584-783F-4CC8-AA88-FBFBE3F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62118-F071-4083-9A91-1EBE2B2D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AD6AF-0FD9-41DF-A38E-8BDC13D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3E63E-CD54-4CAC-A0CD-49D332F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91535-165D-4119-8943-0FE41AD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43BB1-0237-4DE3-9E13-7C7A157D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129F-8E0E-4B66-A4C3-BA59B678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0ACAB-4BD8-45DA-95CB-1DCFC2E7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EC6FE-A293-4AC6-9B2C-07BF6EBA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1A178-C848-42F6-BBF0-DA225C3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877B9-83C8-4D07-9A75-78389C17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88307-47BC-487B-99A6-BBFA5B2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B4697-1935-42FB-864C-9C11492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9FD19-8475-46D9-9975-8342195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84995-4F38-4DEB-91AE-38DA309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DFC3D-9621-423F-BF7E-171BE48A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3657E-DCCD-4DBF-AFA4-BF3A400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60B9-31D4-4039-A31C-DD791A9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8E503-C00D-4A6C-B1F2-16642A3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FEBE1-2E9B-4734-8B31-DF2EB88E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300F6-93F6-4914-8FF6-E762F457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AEBB8-4463-42A5-BE00-8B74EA6D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31853-CDDF-4A5B-ACA8-517E21FA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47C7C-793D-4899-A27D-435AF373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D4832-1F94-47FC-BBD5-2C945FC0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FBB87-962D-4BFD-BD13-E78B703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96F62-1F99-4435-A691-058FE8C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CD165-5505-43B9-A176-E5C13B3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AA3-340D-443B-B27C-30503B8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592-40C7-495E-94E5-A7D96A0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6939D-452A-42B5-9C18-54CED06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D0ADF-F558-4AD9-B5F9-376349B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C2E8C-530A-46DE-94B0-17B529CA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AA9A7-20E3-4E57-8D65-0944BB55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160C7-CC38-4E91-A3C4-D754473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22414-B17B-4DA1-8DBA-DDED254B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CA661-DADE-493D-9766-FB43FD4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A0026-6AF3-4760-9173-3150BF8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39E7D-DA88-48C9-A34F-28D6DDF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3621F-6202-4222-9D20-26C61B0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AEB0-F283-4B92-84AD-4CFAD6F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08416-F02C-4881-8318-F25B534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CEA61-C5C4-41F0-A9A2-7AB0051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291AF-BA1C-4821-ADF6-2222C02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B7401-B0FC-43AA-847B-DE28FAC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2F190-33ED-41ED-8500-9662DE1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D2F65-F5A0-4FDD-A927-A04F6A41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BCC38-952B-4723-B798-76AD006D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8547D-E13B-469E-ABCA-72A1439E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C5EC2-3F74-4EF3-85FC-5B7F6527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EAC72-32FE-4308-A810-6E4C68A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EF4-D58E-4AC2-93FF-870EBA01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2A5BD-98F5-4590-9DA4-AC64E88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07EAE-4647-4CC1-83CD-EB51233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9F093-AFE6-4CDB-AC1B-75DE6BC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7DDC2-1A9B-458A-830E-6CE6D2A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6D93D-E171-4390-A4BE-C451121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D17CD-2787-4533-AB64-C4B5DB9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08063-1868-45C4-AD2D-ED81FF69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EDCE1-B9CB-4DA6-B8C9-3AA7EB89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6BC22-1E00-4CE1-A6F3-4D42E03B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97AA8-567E-4C88-B2B9-E11C2BE5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2F0-FEA7-4190-88A4-9C699153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672ED3-DCEF-49EA-ADBD-5249AE7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DD577-65BD-4D06-8F52-B7C32F93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AEFC0-A53B-4646-B375-2B49C6E1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61EDB-153A-4262-8BFD-D8E920F0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ED9F4-7049-4B3F-AC87-D149C896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3838C-054E-4A58-8267-B1E7C9D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504A6-E81E-4D01-BE3F-BC6FA8B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E81A6-AA1D-41BF-B76A-20C225F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8249B-10B9-41D4-8D8B-4330E4AF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F5B62-0865-4D2E-8731-A8CAD2E8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66E6-BB33-4C7F-BCD6-C57764DE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4D961-2B5C-4D29-9B48-34FE4C0A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7C6BA4-CA91-4AF4-B0F5-DDEE8695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FB923-B735-4144-B73D-7FCF869C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4FDAB-D680-42B0-8AF5-B59CCB71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A9277-87A8-496B-953A-3FA651A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8E364-4FCA-41BB-9218-01242C6D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D55E6-0EB6-4D4A-8284-313A7EC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6AB04-2253-43B7-A04B-AAF19906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73814-ED51-403A-A9FD-D3676CC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C1AB0-0F92-4D7F-9528-89E3265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4E22-7543-47BD-A0C2-4D16F931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63C5D-FE49-4B73-9D9C-A918CEA5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F42E0-AD4C-467B-9D9B-EBA63410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141F6-BBF1-412E-86A4-32F0F8F4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886D-7456-41A6-AFEE-81DD9DC4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61F5-E844-4A82-AA30-F78511D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63C6-BF10-405F-AFC6-A2743241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2C83-79EA-4303-9CFB-40641C6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8A3-331F-4CE9-920C-65FB7369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7277-A502-4961-B7CA-6C4457B4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A39C-8FFD-43A1-8607-835FB21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AC02-DB4A-465D-93A5-E9E2201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F300-80A0-4061-8A54-EF8EA8B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9A38-D662-46BC-A5E6-E0DE7C4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EBC4-95E8-44F3-A4EE-9598435B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057E-DADC-465B-878C-E153D7EF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9662-0377-4588-9210-FCA77908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0C59-C0A7-4845-ACA7-2044ECE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CA5B-4D76-4714-82C2-0F0667D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CF3-2A22-4014-8792-6FD7075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452E-39D6-4BF3-A467-85BD1C0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EB09-DF2B-4B36-A0EE-39DCA88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E79E-A607-4575-AACB-05B98FCB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05BCA-DC09-4B60-BCE6-6B69C23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143D-016D-4A2F-91B8-5C1F7BE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B93B-A17D-461E-BD95-6D6B21D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44C6-BD33-4AE1-8813-B87F003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13C8-F404-4A0F-877F-22920A7C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78FF-6873-4A81-B925-D548061E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4E8B-6A32-40AC-B640-9EE8F691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36B-8A49-4EF1-A461-10B3385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1DFD-F3E6-4A76-8F3E-2E4B81D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F73D-C4D3-4019-8CC0-7F17CE17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4E2A-72CC-4F22-9FEE-34E9B58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4CC38-80F1-4AAD-8591-693A77A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AFA1-61D6-434C-ABEC-D01E064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2E71-27F3-4D1C-B614-4E34946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2BF0-A9D6-42A5-B072-1BAC4DD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D2AA-B07F-46BE-A089-2CFE92B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F6BA-9A77-45FA-BF05-24C869B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4071-3CA2-4A7C-AC16-3C2E77E2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482-AB8B-41D0-AFF1-C4A9DDEE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3DD7-EA09-4938-AA84-97C5B2DB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1326-7B06-4E04-AD19-BC821640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CB6C-D476-41CA-8385-C62F874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C5D7-73C9-419A-869B-AB1EDE7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CF74-B50D-4F8F-AD74-26DCABA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7CE2-621A-4183-9C40-99C2294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962F-5586-42B4-998F-CB3FC48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5E98-AF12-478E-A3F7-AA92779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18D8-B403-4274-8074-ABECAE7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AF210-85D2-454A-93F4-897E26B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E85-2048-403F-BF2D-E332DA1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508C-721B-4FCE-B524-8CCE068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A4F7-7C7F-4016-B865-D8B50BFA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9462C-A013-4F66-8457-8E76AAA2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FAC8-F428-4E1C-AF65-5C375A5A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4232-548E-49AD-A031-CC24D59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C63B-CF71-4702-900C-E595EAA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3B82-8A8A-47A6-A99B-346F5FB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4EB5-03FF-4625-AEAC-3C399199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61B6-FF55-4A68-959C-7502552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F51E-0725-4CB6-930E-FD03B55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B6A-7ED0-47A3-8A31-96960F8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A82B-9354-4340-96B4-E1B3C3C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E10A-D9B8-4DA0-8C80-A14FCE5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2B0E-73DD-4553-82F1-79C9F04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9C707-E8A8-459B-9813-59C22A5B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967B7-7D4D-49CF-B45F-8427EF6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8C63-94D2-4CB9-82F6-7BD758D1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FC9C-AF11-4E88-92AF-E187189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7F05-AD34-4894-8428-E103B25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4B37-5963-4235-9219-C5F4121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CA00-E300-450D-8E4D-F3DFAB11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D36-4D18-4874-989E-85CC9E04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55A9-5BFC-40F7-9C80-C4E5343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CBA8D-221D-43FB-A9D8-266700D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70736-F583-4F8B-AFFB-832A04F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EB1B-9D2B-4AC2-A723-6D86AFA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4EDF-0776-4B46-924A-D44BD11F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14ECE-090E-4793-A1EE-B531383A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46A9-B190-47D6-B014-58C473BD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9957-36E4-406B-99AB-6FA9ED3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2942-BAFD-4878-948D-40676E7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9A15B-AB48-4239-BD39-BED6D5F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287-AA4E-48A9-9C79-D822AFDD78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58C-B29A-450C-8E8C-58BDE81F0A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7BA-2E5A-4C6D-B8B9-27E646EEB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4E5A-A93F-4CF8-8562-730BA6F1D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EB6-30DD-4EA4-964A-E632E2DCC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F29F-2EAD-4D34-AA4E-252A8CE10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670-704A-46A6-A30E-0FA862F79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9C00-A71E-46FB-8715-6C999CAF0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1BB-CEFA-4A4F-824C-B4E788C72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9A06-B3D1-47AC-875E-0BAA7AADA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3D1-7612-4EEF-A64E-149D768AC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A5D-3562-4823-9285-AB0173F7E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4F69-63EA-46C0-BD26-CB21BF5B6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944-0540-4D50-9856-43EA1EDA2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FB2-6DB6-4EE5-9A73-41382F05D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3435-C7A4-4D81-8732-E2C589F1EF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A57-5AF5-4BE4-9151-B5AB54EF0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A10-602E-4D31-AC6F-EBF8E8C3E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BD2-DCBC-4B58-B26C-35DA000C2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593-5C26-4759-8BF7-17D332568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CD3-61E4-4D10-9589-1233A3FB3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34D-CAB4-4F24-B5CD-0E746F7C22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E05-A300-4525-9EB3-F674D18C3F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7D81-C7B2-44BA-9DFA-F5AF9515D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192-E322-4B37-8A7C-B97C6838CC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D92-398B-4CE8-AAD8-F58DAF60D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8B23-FE15-4DDD-8A5C-EDAA91889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989-076B-47E6-BFDA-BDD97E7EB6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7B32-71DA-42A3-890D-7B226D114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1D6-063F-46A9-8C61-FF3AEC180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F89-0153-4432-9450-24432C846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A9DA-3E1B-408A-9698-8CDB0C241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E48-985A-4B43-8FE9-087DA4E181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5AAD-63C0-458E-A47B-B7B5ACF86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081F-070F-4165-944A-241DFBED2A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08E-4DB7-49FC-836E-7F41EFB4D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E34-3D91-4097-B06A-20CA93EBA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A6E-7A73-4713-AD9A-492ED62BF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80D1-6FF9-4640-A696-37C291173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C6B3-C995-4C9B-919F-73FE1EF5A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276200" y="3100320"/>
            <a:ext cx="65916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7987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10720" cy="56196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79874"/>
          <p:cNvSpPr/>
          <p:nvPr/>
        </p:nvSpPr>
        <p:spPr>
          <a:xfrm>
            <a:off x="7740720" y="225432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78849" descr=""/>
          <p:cNvPicPr/>
          <p:nvPr/>
        </p:nvPicPr>
        <p:blipFill>
          <a:blip r:embed="rId1"/>
          <a:stretch/>
        </p:blipFill>
        <p:spPr>
          <a:xfrm>
            <a:off x="538200" y="2243160"/>
            <a:ext cx="8067600" cy="23716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78850"/>
          <p:cNvSpPr/>
          <p:nvPr/>
        </p:nvSpPr>
        <p:spPr>
          <a:xfrm>
            <a:off x="1619280" y="35956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8851"/>
          <p:cNvSpPr/>
          <p:nvPr/>
        </p:nvSpPr>
        <p:spPr>
          <a:xfrm>
            <a:off x="3851280" y="407664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686120" cy="353376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7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3324240" cy="26481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8"/>
          <p:cNvSpPr/>
          <p:nvPr/>
        </p:nvSpPr>
        <p:spPr>
          <a:xfrm>
            <a:off x="4140360" y="4005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8704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4200480" cy="128592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87042" descr=""/>
          <p:cNvPicPr/>
          <p:nvPr/>
        </p:nvPicPr>
        <p:blipFill>
          <a:blip r:embed="rId2"/>
          <a:stretch/>
        </p:blipFill>
        <p:spPr>
          <a:xfrm>
            <a:off x="836640" y="3206880"/>
            <a:ext cx="6305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86017" descr=""/>
          <p:cNvPicPr/>
          <p:nvPr/>
        </p:nvPicPr>
        <p:blipFill>
          <a:blip r:embed="rId1"/>
          <a:stretch/>
        </p:blipFill>
        <p:spPr>
          <a:xfrm>
            <a:off x="533520" y="1376280"/>
            <a:ext cx="8076960" cy="4105440"/>
          </a:xfrm>
          <a:prstGeom prst="rect">
            <a:avLst/>
          </a:prstGeom>
          <a:ln w="0">
            <a:noFill/>
          </a:ln>
        </p:spPr>
      </p:pic>
      <p:sp>
        <p:nvSpPr>
          <p:cNvPr id="1029" name="矩形 86018"/>
          <p:cNvSpPr/>
          <p:nvPr/>
        </p:nvSpPr>
        <p:spPr>
          <a:xfrm>
            <a:off x="4676760" y="278280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84993" descr=""/>
          <p:cNvPicPr/>
          <p:nvPr/>
        </p:nvPicPr>
        <p:blipFill>
          <a:blip r:embed="rId1"/>
          <a:stretch/>
        </p:blipFill>
        <p:spPr>
          <a:xfrm>
            <a:off x="561960" y="1143000"/>
            <a:ext cx="8020080" cy="4572000"/>
          </a:xfrm>
          <a:prstGeom prst="rect">
            <a:avLst/>
          </a:prstGeom>
          <a:ln w="0">
            <a:noFill/>
          </a:ln>
        </p:spPr>
      </p:pic>
      <p:sp>
        <p:nvSpPr>
          <p:cNvPr id="1031" name="矩形 84994"/>
          <p:cNvSpPr/>
          <p:nvPr/>
        </p:nvSpPr>
        <p:spPr>
          <a:xfrm>
            <a:off x="4211640" y="2997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8396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39160" cy="22575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83970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7305840" cy="1800360"/>
          </a:xfrm>
          <a:prstGeom prst="rect">
            <a:avLst/>
          </a:prstGeom>
          <a:ln w="0">
            <a:noFill/>
          </a:ln>
        </p:spPr>
      </p:pic>
      <p:sp>
        <p:nvSpPr>
          <p:cNvPr id="1034" name="矩形 83971"/>
          <p:cNvSpPr/>
          <p:nvPr/>
        </p:nvSpPr>
        <p:spPr>
          <a:xfrm>
            <a:off x="5003640" y="299736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2945" descr=""/>
          <p:cNvPicPr/>
          <p:nvPr/>
        </p:nvPicPr>
        <p:blipFill>
          <a:blip r:embed="rId1"/>
          <a:stretch/>
        </p:blipFill>
        <p:spPr>
          <a:xfrm>
            <a:off x="547560" y="2028960"/>
            <a:ext cx="8048880" cy="280008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2946"/>
          <p:cNvSpPr/>
          <p:nvPr/>
        </p:nvSpPr>
        <p:spPr>
          <a:xfrm>
            <a:off x="2028960" y="43149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2947"/>
          <p:cNvSpPr/>
          <p:nvPr/>
        </p:nvSpPr>
        <p:spPr>
          <a:xfrm>
            <a:off x="6659640" y="4365720"/>
            <a:ext cx="64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81921" descr=""/>
          <p:cNvPicPr/>
          <p:nvPr/>
        </p:nvPicPr>
        <p:blipFill>
          <a:blip r:embed="rId1"/>
          <a:stretch/>
        </p:blipFill>
        <p:spPr>
          <a:xfrm>
            <a:off x="528480" y="1523880"/>
            <a:ext cx="8087040" cy="3810240"/>
          </a:xfrm>
          <a:prstGeom prst="rect">
            <a:avLst/>
          </a:prstGeom>
          <a:ln w="0">
            <a:noFill/>
          </a:ln>
        </p:spPr>
      </p:pic>
      <p:sp>
        <p:nvSpPr>
          <p:cNvPr id="1039" name="矩形 81922"/>
          <p:cNvSpPr/>
          <p:nvPr/>
        </p:nvSpPr>
        <p:spPr>
          <a:xfrm>
            <a:off x="3924360" y="4005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0897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0080" cy="54579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80898"/>
          <p:cNvSpPr/>
          <p:nvPr/>
        </p:nvSpPr>
        <p:spPr>
          <a:xfrm>
            <a:off x="7740720" y="12682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8:1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